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3E6-9A7C-4787-B586-5C1D523C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BA6-6FAB-4066-AD1C-43F67079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A36-8245-47E3-AF4E-B386511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4A1-F62D-4342-B073-FB7ABE92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A03-D46C-43D1-BEF2-4EE16E9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ACF-DF9D-4711-8981-73672BB6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DB1-EB93-41A4-A17F-81453480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2F5-D55B-45FF-9D77-63D045E0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B0F-57F2-4606-BD62-B4D5883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483-9DBB-43BC-90F4-2C2D25CD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120-9937-4EDF-BF8D-EA863DD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0DB-8036-42E7-9BCC-903FB4E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EA7-0A44-487D-BFF6-420CC662E0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رفعة الكأس:</a:t>
            </a:r>
            <a:br>
              <a:rPr sz="8800"/>
            </a:br>
            <a:br>
              <a:rPr sz="8000"/>
            </a:br>
            <a:r>
              <a:rPr b="0" lang="ar-SA" sz="6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آب الحق الرحم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504720"/>
            <a:ext cx="550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719280"/>
            <a:ext cx="594036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بكرَ الآبِ المحجوبْ يسوعُ الفادي المحبوب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ابنَ ال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مصلوب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620640"/>
            <a:ext cx="57229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16280"/>
            <a:ext cx="5580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للهِ الآبِ القادِرْ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والربِ الإبنِ الغافرْ والروحِ الحيِّ الطاهرْ غَنّوا المجدَ كلَّ آن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9640" y="1989000"/>
            <a:ext cx="572436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7-13T15:27:11Z</dcterms:modified>
  <cp:revision>12</cp:revision>
  <dc:subject/>
  <dc:title>PowerPoint Presentation</dc:title>
</cp:coreProperties>
</file>